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86D7-8CD5-4B00-9603-E63DFB058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5169-2109-4B63-8EEF-F566A5E5B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6-</a:t>
            </a:r>
            <a:fld id="{5DDD22A9-2597-4613-8B34-6F18365D6D6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nues, Sales Variances, and Customer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4648320"/>
            <a:ext cx="3657240" cy="1523880"/>
            <a:chOff x="914400" y="4648320"/>
            <a:chExt cx="3657240" cy="1523880"/>
          </a:xfrm>
        </p:grpSpPr>
        <p:sp>
          <p:nvSpPr>
            <p:cNvPr id="120" name=""/>
            <p:cNvSpPr/>
            <p:nvPr/>
          </p:nvSpPr>
          <p:spPr>
            <a:xfrm>
              <a:off x="380484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5257800"/>
              <a:ext cx="1356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1880" y="5257800"/>
              <a:ext cx="176976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Yiel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080" y="4952880"/>
              <a:ext cx="2477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40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8196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3520" y="3124080"/>
            <a:ext cx="3962160" cy="1524240"/>
            <a:chOff x="533520" y="3124080"/>
            <a:chExt cx="3962160" cy="1524240"/>
          </a:xfrm>
        </p:grpSpPr>
        <p:sp>
          <p:nvSpPr>
            <p:cNvPr id="127" name=""/>
            <p:cNvSpPr/>
            <p:nvPr/>
          </p:nvSpPr>
          <p:spPr>
            <a:xfrm>
              <a:off x="266112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168732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3733920"/>
              <a:ext cx="19810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Efficienc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3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13720" y="3429000"/>
              <a:ext cx="20541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78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allocation occurs when revenues, related but not traceable to individual products (services or customers), are assigned to individu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ndled product is a package of two or more products or services, sold for a single price, each with their own stand-alone pr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ten called suite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revenues to products based 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elling prices or unit cos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hysical uni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tand-alone product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ncremental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99 - 60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– Stand Al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0178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638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538280"/>
            <a:ext cx="243072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Stand-Alone P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0 / $1,000 x $760  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9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0 / $1,000 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8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 / $1,000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4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- Incremen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35840" y="1523880"/>
            <a:ext cx="201744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496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523880"/>
            <a:ext cx="243036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14600"/>
            <a:ext cx="8229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Incremental Prices *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760 - $450 - $300)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  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775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* Assume primary product is Finance, then Spread, then 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3 - 6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62520" y="4648320"/>
            <a:ext cx="4724280" cy="1523880"/>
            <a:chOff x="3962520" y="4648320"/>
            <a:chExt cx="4724280" cy="1523880"/>
          </a:xfrm>
        </p:grpSpPr>
        <p:sp>
          <p:nvSpPr>
            <p:cNvPr id="75" name=""/>
            <p:cNvSpPr/>
            <p:nvPr/>
          </p:nvSpPr>
          <p:spPr>
            <a:xfrm>
              <a:off x="769608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525780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iz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5257800"/>
              <a:ext cx="22860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har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4952880"/>
              <a:ext cx="3200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246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7200" y="388620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actual unit sales - budgeted unit sales) x budgeted contribution margin per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48320" y="3124080"/>
            <a:ext cx="4114800" cy="1524240"/>
            <a:chOff x="4648320" y="3124080"/>
            <a:chExt cx="4114800" cy="1524240"/>
          </a:xfrm>
        </p:grpSpPr>
        <p:sp>
          <p:nvSpPr>
            <p:cNvPr id="83" name=""/>
            <p:cNvSpPr/>
            <p:nvPr/>
          </p:nvSpPr>
          <p:spPr>
            <a:xfrm>
              <a:off x="685800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373392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733920"/>
              <a:ext cx="20574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Quantit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62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2720" y="3429000"/>
              <a:ext cx="21333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60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-Mix and Sales-Quantit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76360"/>
            <a:ext cx="891540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mix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86040"/>
            <a:ext cx="8915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quantit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6 - 6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752480"/>
            <a:ext cx="304812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19076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-Share and Market-Size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76000"/>
            <a:ext cx="891540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hare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iz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8 - 6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32004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36576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profitability of individual customers taking into accoun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pecific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 chann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upport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porate sustain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ok at customers in terms o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hort-run and long-run profitabi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kelihood of reten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wth pot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ases in overall demand from well-known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learn from a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11 - 6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 for In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47636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297180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114800"/>
            <a:ext cx="403884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1:59:48Z</dcterms:created>
  <dc:creator>User</dc:creator>
  <dc:description/>
  <dc:language>en-US</dc:language>
  <cp:lastModifiedBy>John Moore</cp:lastModifiedBy>
  <dcterms:modified xsi:type="dcterms:W3CDTF">2003-03-22T13:21:04Z</dcterms:modified>
  <cp:revision>10</cp:revision>
  <dc:subject/>
  <dc:title>No Slide Title</dc:title>
</cp:coreProperties>
</file>